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F83-7379-41D5-A009-B2662BE2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0B3-C678-4C79-A7F7-458DCEA7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486-E456-4549-A7F7-B33E8EEB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C62-01CD-4306-A71F-5054A66C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F454-CDC2-4975-BE04-894BE0E6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4FE2-00DF-4BE1-B694-B6A603DE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454C-AD10-40C5-8AD9-8EE9A10D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23C9-A224-4B0F-BAC3-5BC4B0C7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52BF-AED6-40B6-8EC7-093F69C7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935E-4A70-4516-BE18-6B9EA77E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42A6-21BD-444E-8A69-89A82BF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FC2-FD8D-4C94-81E2-85406DEC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C8AA-F901-4192-BEA3-2411C561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219E-E216-4ABD-B82B-9491987A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75C1-E647-4396-BC41-FA511A3E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4D61-904B-4CB1-9975-D6715AB3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95B7-42C2-45DC-918B-3F2BD419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8D0-324E-4EE8-8EA7-CE75E1CB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593-56E5-4784-94BE-E8EC2372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A5B-79F4-445C-A509-6CB4C34E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9E5-DE1F-4722-BE39-213A1B2E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050-843B-4A11-8F16-157FF5B2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BEC-DDAC-47F3-91E6-8F6682D8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1C6-91AE-46D5-B7E1-C7904C0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562C-40D9-4225-9096-D7F152327D72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E28B-CEC9-4723-B9A7-9A5473A15619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onnie Campbell</cp:lastModifiedBy>
  <dcterms:modified xsi:type="dcterms:W3CDTF">2002-05-31T21:55:06Z</dcterms:modified>
  <cp:revision>3</cp:revision>
  <dc:subject/>
  <dc:title>Twenty Questions </dc:title>
</cp:coreProperties>
</file>